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9978-3F25-4DC1-A077-7AF8230E7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00D6-51E7-491E-883E-EA6A6AD13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B785-B385-4BA2-A2C0-0FE56F3C0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C656-852E-472D-A75A-2EAAE4BA3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C51BB-7670-44DC-AC3F-DC6F323ED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A8AB7-20C5-4460-A087-EC9049CD2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00500-AD9F-40AE-828F-2F17D3064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32B40-4B8E-4366-A3F2-2524149A5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70B1F-37E3-41DD-ACEA-228B8A29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91A4D-827A-4BAD-B574-65DEDB38E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B9F06-061B-445E-9688-22126830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979A-EAE6-4B50-ADA2-B66036448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77464-C8D4-4CAE-B6E1-D3ACD489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3C7A4-E410-4C33-8CCA-8C88AD9B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51EA6-EE7C-43A2-80B3-AB902647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EC33E-E259-4C6C-9093-BB744A35E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FF35D-F264-4822-BF0E-EA70D6F0E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A100-500A-4D11-AD5B-0A69D5578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5F47-0F63-488D-8D5E-445DECD6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8621-406C-4159-BFE2-26F4C7B0E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03A7-D893-470C-9AB5-3CFE211BC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1B80-696F-4EA9-8585-102B8D6D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6C12-8B14-4F01-BFB2-7A8B89C2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BC9D-709A-40C2-89BF-DEDA066C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ACB8E-83DD-45BA-BD50-6E77C024700E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DC6B8-1029-441F-AA5C-F338BC89E77E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bcbcb"/>
                </a:solidFill>
                <a:latin typeface="Times New Roman"/>
              </a:rPr>
              <a:t>Program zapobiegania przemocy w środowisku szkolnym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Laurence Mousset-Libea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Times New Roman"/>
              </a:rPr>
              <a:t>ICSH</a:t>
            </a: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 – Institut de Criminologie et Sciences Humaines, Université Rennes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Katowice, 24.02.0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Narzędz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Tabl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ica zachowań społecz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krocze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aw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posłuszeństw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egulami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uprzejmość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Grupa społeczn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Brak szacunku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sob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wg.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Villerbu LM, Bouchard C., Moisan T., (1997), in Charlot B.,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Emin C., Violences à l’école, Etat des savoirs, A. Colin éd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M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tod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y prac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myślanie scenek sytuacyjnych w małych grupka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bór rzecznika w każdej 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ygotowanie scenek sytuacyjnych w grupa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bór scenki sytuacyjnej przez każdą podgrup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bór rzecznika w każdej pod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dstawienie dwóch wymyślonych sytuacji na forum klas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yskusja na forum klas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orientowanie na zapobieganie, szukanie rozwiązań, mediacj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Oczekiwan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związywanie problemu w 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czenie mediacj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zwinięcie znaczenia słowa „szacunek”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tworzenie spójnej grupy klasowej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zrost zaufania w osobie dorosłeg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miana perspektywy postrzegania rzeczywistośc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kierunkowanie na dziecko, nie tylko na uczni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waluacja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: 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Szacunek, poważanie ze strony ucznió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k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0-200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Inventaire de Coopersmith® (ecpa éditio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col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ge-program/col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ge-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świade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d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m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ziewczęt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chłop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środowisk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iejsk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środowisko miejsk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R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ezultaty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: 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szacunek do siebi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niejszy program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prawia samoocenę dziewcząt w środowisku rodzinny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prawia samoocenę chłopców w środowisku szkolny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mniejsza różnicę wśród chłopców pomiędzy tym jakimi „są” a jakimi „udają, że są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pl-PL" sz="4000" spc="-1" strike="noStrike">
                <a:solidFill>
                  <a:srgbClr val="cbcbcb"/>
                </a:solidFill>
                <a:latin typeface="Times New Roman"/>
              </a:rPr>
              <a:t>waluacja</a:t>
            </a: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 : </a:t>
            </a:r>
            <a:r>
              <a:rPr b="0" lang="pl-PL" sz="4000" spc="-1" strike="noStrike">
                <a:solidFill>
                  <a:srgbClr val="cbcbcb"/>
                </a:solidFill>
                <a:latin typeface="Times New Roman"/>
              </a:rPr>
              <a:t>odporność na stres wśród dorosłych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k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2-200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ISS® (ecpa édition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orosłych uczestników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orosłych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świadków progra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d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m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ytanie subiektywne o poziom odczuwanego stres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R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ezultaty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: 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odporność na str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niejszy program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bniża poziom stresu emocjonalnego powodowanego stresującą sytuacją zawodową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trzymuje poziom stresu zawodowego powodowanego wykonywaną pracą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zięki współpracy obniża stres powodowany sytuacją zawodową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Poziom odczuwanego stresu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y ten program prewencji spowodował obniżenie stresu zawodowego? (62 odpowiedzi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0 %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 odczuwam stres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6 %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 potrafię odpowiedzieć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6 %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58 %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ta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Konkluzj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niejszy program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prawia poczucie własnej wartości wśród dziewcząt i chłopcó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zwala na lepsze panowanie nad stresem powodowanym sytuacją zawodową wśród dorosł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przyja pracy w 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zwala dzieciom na lepsze rozumienie własnych zachowań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spiera rozwiązywanie problemów w 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zwija strategie mediacyj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dtrzymuje zaangażowanie każdego uczestnika  przez cały rok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Pozostałe zauważone efekty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Polepszenie atmosfery w klasi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Spadek liczby uczniów powtarzających klas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Wzrost samodzielności wśród ucznió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Lepsza współpraca instytucjonaln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Skuteczniejsze stosowanie wewnętrznych przepisó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Program wspomagany przez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artement Ille-et-Vila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artement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yrekcja zdrowia i spraw społecz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Krajowa Federacja Ubezpieczeń Wzajemnych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FNMF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utualité française Ille-et-Vila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adzór Akademicki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Ille-et-Vila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utuelle Générale de l’Education Nationa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r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wencja w środowisku szkolnym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Adose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Kolejno w latach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2000-2001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raz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2-2003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Perspe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ktyw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Rozwój działań na poziomie departamentalnym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szkolenia dla trenerów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Program wybrany w ramach konkursu ogłoszonego przez Ministerstwo ds. Rodzin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Propozycja zgłoszenia do programu europejskiego walki z przemocą DAPHNE I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Zalecenia  dot. zapobiegan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lan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działani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definiowanie konkretnych celó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Kwalifikacja poziomu prewencji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I, II, III –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H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tworzenie odpowiednich narzędzi ewaluacj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erzalność osiągniętych celó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eorientacja strategii prewencyjnej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cbcbcb"/>
                </a:solidFill>
                <a:latin typeface="Times New Roman"/>
              </a:rPr>
              <a:t>Zalecenia w środowisku szkolnym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Uzyskanie zgody władz placówk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Włączenie do współpracy grona pedagogicznego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Zweryfikowanie motywacji grona pedagogiczneg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Poinformowanie rodziców o prowadzonych działaniach prewencyjny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Dostosowanie podejmowanych działań do wieku ucznió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Unikanie jednorazowych interwencj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Wspomaganie działań rozłożonych w czasi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Zastosowanie gier i zabaw interaktywny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D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wie fazy projektu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ffcc"/>
                </a:solidFill>
                <a:latin typeface="Times New Roman"/>
              </a:rPr>
              <a:t>Sarth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1998-1999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Colleg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10-12 an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zkoła podstawow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8 –10 an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wierdzenie ewaluacji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ffcc"/>
                </a:solidFill>
                <a:latin typeface="Times New Roman"/>
              </a:rPr>
              <a:t>Ille-et-Vila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bór pracy w college’u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2000-2001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(2002-2003)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3429000"/>
            <a:ext cx="152280" cy="914400"/>
          </a:xfrm>
          <a:prstGeom prst="downArrow">
            <a:avLst>
              <a:gd name="adj1" fmla="val 50000"/>
              <a:gd name="adj2" fmla="val 150118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00600" y="495288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Zawartość programu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5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ni szkoleniowych wśród grona pedagogicznego college’u (nauczycieli, pedagogów szkolnych, psychologa szkolnego, lekarza, pielęgniarki, pracownika socjalneg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…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5 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ów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agogi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cznych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 udziałem uczniów, prowadzone przez 2 osoby dorosłe, które ukończyły szkolen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waluacje naukowe w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1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raz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Szkolenie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1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miejętność słuchania i rozmowy z dzieckiem czyli jak prowadzić z szacunkiem rozmowę bez względu na powód rozmow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2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Nasze postrzeganie rzeczywistości poprzez pryzmat codziennej sytuacji zawodowej, instytucja i różne formy przemo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3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ygotowanie zajęć pedagogicznych z uczniam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4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ojrzewanie, akty przemocy, syndrom dziecka maltretowanego, przemoc na tle seksualny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5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waluacja oraz utworzenie grup edukacyj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S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potkania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p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dagogi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czn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1 : tab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ca zachowań społecz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moc wśród dziec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3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moc wśród dorosł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4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moc dorosłych wobec dziec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5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moc na tle seksualnym dorosłych wobec dziec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aca interaktywna na bazie wymyślonych scenek sytuacyj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Jasno określone reguły dotyczące przebiegu spotkań (nie kpić, słuchać innych, akceptować zdanie inny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Kalendarz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Przebieg programu podczas trwania roku szkolneg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4267080"/>
            <a:ext cx="6400800" cy="486000"/>
          </a:xfrm>
          <a:prstGeom prst="rightArrow">
            <a:avLst>
              <a:gd name="adj1" fmla="val 36602"/>
              <a:gd name="adj2" fmla="val 54145"/>
            </a:avLst>
          </a:prstGeom>
          <a:gradFill rotWithShape="0">
            <a:gsLst>
              <a:gs pos="0">
                <a:srgbClr val="00ffcc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405080" y="4581360"/>
            <a:ext cx="6163560" cy="337320"/>
            <a:chOff x="1405080" y="4581360"/>
            <a:chExt cx="6163560" cy="337320"/>
          </a:xfrm>
        </p:grpSpPr>
        <p:sp>
          <p:nvSpPr>
            <p:cNvPr id="114" name=""/>
            <p:cNvSpPr/>
            <p:nvPr/>
          </p:nvSpPr>
          <p:spPr>
            <a:xfrm>
              <a:off x="1405080" y="45813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31400" y="45813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92640" y="45813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X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88080" y="4581360"/>
              <a:ext cx="42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XI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659400" y="4581360"/>
              <a:ext cx="23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290120" y="45813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828680" y="458136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I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23040" y="45813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982840" y="45813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532560" y="45813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V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139520" y="4581360"/>
              <a:ext cx="42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VI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1523880" y="3048120"/>
            <a:ext cx="2438640" cy="228600"/>
          </a:xfrm>
          <a:prstGeom prst="flowChartProcess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Szkolen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9880" y="3429000"/>
            <a:ext cx="2819520" cy="304920"/>
          </a:xfrm>
          <a:prstGeom prst="flowChartProcess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potkania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edagogicz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00800" y="3962520"/>
            <a:ext cx="1219320" cy="228600"/>
          </a:xfrm>
          <a:prstGeom prst="rect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waluacj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8T14:42:17Z</dcterms:created>
  <dc:creator>Clinique Criminologique et Psychopathologique</dc:creator>
  <dc:description/>
  <dc:language>en-US</dc:language>
  <cp:lastModifiedBy>Basia_S</cp:lastModifiedBy>
  <dcterms:modified xsi:type="dcterms:W3CDTF">2005-02-15T16:16:53Z</dcterms:modified>
  <cp:revision>55</cp:revision>
  <dc:subject/>
  <dc:title>Présentation générale du projet</dc:title>
</cp:coreProperties>
</file>